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3357-21D9-4860-99DC-ADE56E59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C7ED-2803-4777-BD77-8F95DC36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02DE-C17D-48E7-AEAC-A9B58EE1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A821-60D0-4722-BBC1-B6AF014C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EED4-00CF-4EC3-9EF2-23769A7B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9674-523A-4F80-B7BF-F3533F3D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FDE4-15FC-4BF5-925B-1E27C3D7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FD3E-F07F-40CF-A263-C850B0B0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3B3C-9792-424C-AE46-813956EE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0700-FE9C-4CE9-9E27-59C7D3D2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1B2B-E918-4B1B-AE84-61A00B1E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F2B9-0B51-44F3-BB80-428740DD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7BED-560F-4A6F-9831-1C951475E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 2008_2009 Q1 Le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s, Lists, Validati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 (html node struct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plan week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uur 1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tops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zichten naar het bor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ndeld word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 structuur: node rel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plan week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uu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tops 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ken aan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ag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09:55:48Z</dcterms:created>
  <dc:creator>Arjo Post</dc:creator>
  <dc:description/>
  <dc:language>en-US</dc:language>
  <cp:lastModifiedBy>Arjo Post</cp:lastModifiedBy>
  <dcterms:modified xsi:type="dcterms:W3CDTF">2008-09-15T09:14:32Z</dcterms:modified>
  <cp:revision>4</cp:revision>
  <dc:subject/>
  <dc:title>FED 2008_2009 Q1 Les2</dc:title>
</cp:coreProperties>
</file>