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3BDE-7AC3-4B27-827C-561F246F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9F61-0FBC-4D79-BE36-BB52DBB0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E4B-3975-45DB-96D5-F45882CB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AF21-BD06-455A-A447-8F4CA2D2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E4D2-598B-47BE-A666-FC0A5654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AD4A-2748-439B-8158-1C05C9A6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40ED-7F90-4A2F-B914-18524D6E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C0A4-131A-421B-AB26-31B682D5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7B9A-15D3-4C1C-80D3-1C22F4AE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0711-A16D-490D-89D5-B9F4FA6B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D2F5-D825-4BAB-977A-EBF1D07F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4263-F37F-41AE-BF0D-ABCEBE3D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7CB0-B5E0-412A-8BA4-A00B9BB4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6898-5CAF-4FCD-8D3E-4AB4F80E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D01F-7DA5-40C4-A481-957907E7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937D-CC03-43B4-84F9-4BBDD2C7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1063-E763-45AC-A8B1-F02A648B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E817-74CF-460B-AAFE-16A0543C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EF5C-E6AD-4EAD-A761-2DFE563C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22F-1D41-4ABC-92F9-2A8CDC2F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04B9-A9ED-49EA-A77B-3173DA73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829-4FDF-474F-8F2C-397016C2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22D-C113-4CF4-B035-98F42CD0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72C2-E7D8-4D1C-96DD-4143922D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168C-33F6-4C34-82D1-B6ACBE884D8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D725-BB95-455F-949B-1E4D3535B6A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entside DOM Scripting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et Javascrip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2008/2009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aar1 Kwartaal2 Les2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Variabele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er om “iets” tijdelijk te onthoud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amgeving belangrijk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se sensiti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ebruik logische nam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melCase handig (myFirstStringVa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vascript = “loose typing” (datatype niet verplicht opgeven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vascript = niet strict, declaratie vooraf niet nodig maar wel zo netjes (var gebruike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Express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itdruk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soor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ithmetic: evaluates to a number, for examp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ing: evaluates to a character string, for example "Fred" or "234"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gical: evaluates to true or fal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ie ook http://lib.ru/JAVA/javascr/expr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: alert, confirm, promp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nereren dialog box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ert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t tekst + OK but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EEN return val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firm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t tekst + OK + Cancel but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urn value (true/fal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mp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t tekst + OK + Cancel but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gelijkheid om tekst in te voer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urn value (true/fal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sopdrac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dracht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raag om naam bij laden pagin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 ingevulde naam als &lt;h1&gt; koptek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dracht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 10 teksten achter elkaar via een alert bij laden van pagin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dracht 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at gebruiker bij laden van pagina 2 getallen invoer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l deze getallen bij elkaar op en toon het resulta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at is een Client?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client is een computer in een netwerk die zich op dat netwerk gedraagt als een klant: hij haalt informatie op van een server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computer wordt een client door bepaalde programma’s die daar op draaien zoals Firefox (browser) en Outlook (mai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 Client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standen worden welliswaar van webserver gehaald maar de inhoud wordt lokaal in de browser verwerk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M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S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vaScrip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ash sw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koppel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e: zoals met CSS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yntax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&lt;script type=“text/javascript” src=“bestand.js”&gt;&lt;/script&g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katie javascript best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hankelijk van doel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&lt;head&gt; section: javascript wordt uitgevoerd tijdens laden van &lt;head&g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&lt;body&gt; section: javascript wordt uitgevoerd tijdens laden van &lt;body&g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derop, tussen &lt;/head&gt; en &lt;/body&gt;: javascript wordt uitgevoerd als gehele pagina in de browser sta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us: altijd afvragen wanneer je wat uit wilt vo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en, methoden en AP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cument.write("Hello, world"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ML DOM object = docu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thode = wr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jecten en methodes te vinden via  javascript references (API-references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I = Application Programming Interf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ie http://www.gotapi.c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XHTML stri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script type="text/javascript"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!-- &lt;![CDATA[ Afschermen voor oude brow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cument.write("Hello, world"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// ]]&gt; Einde afscherming --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/script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Commentaar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entaar in code = belangrijk voor ontwikkelaar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t niet door browser verwerk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 manier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 regel //dit is commenta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 blok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/* start blok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inde blok *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Datatype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ing (= tekst, alles tussen quot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mber (= numerieke gegevens, getall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olean (= schakelaar, aan of uit, true/fals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r zijn er meer maar die worden later behande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5:49:30Z</dcterms:created>
  <dc:creator>Arjo Post</dc:creator>
  <dc:description/>
  <dc:language>en-US</dc:language>
  <cp:lastModifiedBy>Arjo Post</cp:lastModifiedBy>
  <dcterms:modified xsi:type="dcterms:W3CDTF">2008-11-24T08:40:21Z</dcterms:modified>
  <cp:revision>3</cp:revision>
  <dc:subject/>
  <dc:title>Clientside DOM Scripting met Javascript</dc:title>
</cp:coreProperties>
</file>